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F87-AAB9-4BF8-94C7-2756D616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9C4-1FDB-4F20-A4DE-069C2764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068E-2970-49AB-9408-5CDD7657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C04-B61E-4B5C-B1AC-57EFCB35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EA2A-5A90-4D53-B443-DB4F4F53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CE1E-8F14-4DEA-8283-842E6A3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4A0C-AD78-4778-B140-DD80D8F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62D5-7244-4EF1-832B-9B54CCAB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2274-4C65-463D-A9FA-3F8EE382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5421-CCE0-4646-A41E-FED14BD5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3AE9-86BC-4BEE-9A16-FE64AB76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6DC-982A-48D2-B251-3971E736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CE39-5067-46EE-9E42-A97A3472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358A-6F65-43B1-98AA-579D848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6EA3-01A6-4247-9353-63CE41E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ADA5-A4A9-4EDD-ABA0-1ADC8BE5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2F06-B449-4FA6-9F3A-6B11F6F8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251-C8A5-4BC9-90DB-54C6D88A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BEA-BF9B-439D-9F41-5489DEC0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B27-230F-4E61-B9D6-26931ADE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147-5092-4B49-9F90-C8CA628B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E35-EBD8-4C98-85BC-D047F96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742-53DD-421D-989B-ECC60C5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E3B-9754-4A8A-8250-BA55E78D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1A8C-F207-4FF4-96E4-603B4B7C0C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F31-C36D-4775-A7AC-9C27571E59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avel.nationalgeographic.com/places/countries/country_libya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ibya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k and K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1" name="" descr="Men Dressed In Traditional Libyan Clothes"/>
            <p:cNvPicPr/>
            <p:nvPr/>
          </p:nvPicPr>
          <p:blipFill>
            <a:blip r:embed="rId1"/>
            <a:stretch/>
          </p:blipFill>
          <p:spPr>
            <a:xfrm>
              <a:off x="4648320" y="0"/>
              <a:ext cx="4495680" cy="43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648320" cy="457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Food Market in Tripoli, Libya"/>
            <p:cNvPicPr/>
            <p:nvPr/>
          </p:nvPicPr>
          <p:blipFill>
            <a:blip r:embed="rId3"/>
            <a:stretch/>
          </p:blipFill>
          <p:spPr>
            <a:xfrm>
              <a:off x="0" y="3308400"/>
              <a:ext cx="9144000" cy="354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33"/>
                </a:solidFill>
                <a:latin typeface="Arial"/>
              </a:rPr>
              <a:t>Culture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located in the south-western part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by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Ghat has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ical desert clim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temperatures in summer often soaring to 50ºC. Today there are no inhabitants, but the structure still rem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poli is Libya's largest city and port, the country's capital and the full-time residence of Colonel Qaddafi. Climate is Mediterranean with hot dry summers, cool winters and some rainfal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arial200.jpg (10863 bytes)"/>
          <p:cNvPicPr/>
          <p:nvPr/>
        </p:nvPicPr>
        <p:blipFill>
          <a:blip r:embed="rId1"/>
          <a:stretch/>
        </p:blipFill>
        <p:spPr>
          <a:xfrm>
            <a:off x="152280" y="144792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93364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324480" y="3772080"/>
            <a:ext cx="2370240" cy="308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p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609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2280" y="4343400"/>
            <a:ext cx="3962520" cy="2112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52880" y="457200"/>
            <a:ext cx="0" cy="609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travel.nationalgeographic.com/places/countries/country_libya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student.britannica.com/comptons/article-230811/Lib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infoplease.com/ipa/A0107722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tate.gov/r/pa/ei/bgn/5425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bya’s La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in Northwester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-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-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ya's most important natural resource is its petrole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has supplies of natural gas and a huge iron ore depos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0" y="3200400"/>
              <a:ext cx="914400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Libya’s Land Con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mate &amp; Vege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ers - Hot and d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ters - Coo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al 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 – hot during the day, cold at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each 122 F in desert during the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Head of State--Mu'ammar Abu Minyar al-Qadhaf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cretary General of the General People's Committee (Prime Minister)--Dr. Al-Baghdadi Ali al-Mahmudi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cretary of the General People's Committee for Foreign Liaison and International Cooperation (Foreign Minister)--Abd al-Rahman Shalgh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Inhabitants - Berber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 by – Oea, Saberatha, Labq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cene of much desert fighting during World War 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cities were destroyed by Arabs In the 6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. 23, 1943, it came under Allied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rrent Event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ya’s wireless web access le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rants flock to Libya en route to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BC World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Industry – Largest oil produ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Exports –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Literacy Rate – 76.2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1 Libyan Dinar = .76 US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ultur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s spoken - Native Arab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7% of people in Libya are Isla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504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0:24Z</dcterms:created>
  <dc:creator>katelynmforbes</dc:creator>
  <dc:description/>
  <dc:language>en-US</dc:language>
  <cp:lastModifiedBy>katelynmforbes</cp:lastModifiedBy>
  <dcterms:modified xsi:type="dcterms:W3CDTF">2009-02-24T14:43:47Z</dcterms:modified>
  <cp:revision>16</cp:revision>
  <dc:subject/>
  <dc:title>Slide 1</dc:title>
</cp:coreProperties>
</file>